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FDD-6663-4EBC-8ADA-CC2C57FF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0AF-589E-44E5-86F0-95745488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199-EE9B-463D-80E3-B747CE2C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B1A-432B-4162-BD8A-36208BDC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CC8-884A-407A-AEAD-642F004E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5068-7C48-45D9-9C9F-F7166525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23A1-0E08-4A1D-9721-621B09C8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EDD9-96FE-4020-A865-F8647271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6199-A2FF-4090-841D-D30BB9A7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A5E2-DC35-4A6C-8B73-22A14061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0B0C-299B-4BF7-A239-DA4949F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242-A3C2-4747-B31E-93449870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89E3-51D9-4A3A-A690-67105531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144D-65BB-4BB6-A178-F64D5F11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A970-D4B1-41F8-8843-23A0B6FF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36B4-74D5-4175-AD72-1FE0367F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1980-3CAE-42F7-AF7A-0AAAC4E8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ECD-D026-4A4D-940C-6B05EA8E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8D0-569E-42BE-85CE-516F7F60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684-42E9-4C50-997B-E38B146A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41F-0488-44A3-8154-A72056D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C1A-56B6-4E65-9B64-8FC08954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D57-4D6F-44CC-B09D-D980349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1A3-BFF0-47DE-9092-0F9FC771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999-8C9C-41EF-B537-F45A2B1EE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8128-6EAD-49DE-88DE-04347C7FD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74;&#1089;&#1090;&#1088;&#1080;&#1103;" TargetMode="External"/><Relationship Id="rId3" Type="http://schemas.openxmlformats.org/officeDocument/2006/relationships/hyperlink" Target="http://www.worldstory.ru/austria/01.html" TargetMode="External"/><Relationship Id="rId4" Type="http://schemas.openxmlformats.org/officeDocument/2006/relationships/hyperlink" Target="http://www.calend.ru/holidays/austria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Австрия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ьсова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курс КГП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Сыктывкар,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нформационные ресур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ru.wikipedia.org/wiki/%D0%90%D0%B2%D1%81%D1%82%D1%80%D0%B8%D1%8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worldstory.ru/austria/01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calend.ru/holidays/austria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мы знаем об этой стра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она отличается от других стра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знаменита эта стра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влекает в н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меты: немецкий язык, ис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ники 9-10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идактические цел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ить кругоз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звать интерес к изучаемому язы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ические 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 со страной изучаемого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ить ее особ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ить историю, тради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емы самостоятельных исследований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никновение и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стрия в наш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и и обыча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о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стопримеча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едставление результа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тапы и сро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час - выбор и формулировка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-2 час - 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ас - самостоятельная р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ас - представление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2:07Z</dcterms:created>
  <dc:creator>ДАША</dc:creator>
  <dc:description/>
  <dc:language>en-US</dc:language>
  <cp:lastModifiedBy>ДАША</cp:lastModifiedBy>
  <dcterms:modified xsi:type="dcterms:W3CDTF">2009-12-08T10:24:23Z</dcterms:modified>
  <cp:revision>4</cp:revision>
  <dc:subject/>
  <dc:title>Австрия</dc:title>
</cp:coreProperties>
</file>